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079C-9D1A-4FC5-A55C-96AA65146B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851-A006-42D5-B3ED-04C814F866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C71-55B6-4BC7-A5D5-E15CA6081D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C302-D77A-4F92-A6BA-3CDA36A6B1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4745-9579-4076-8B07-D089B18547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7F9A-BFE5-47A9-B204-B38D2DC143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F822-1EEF-43D1-8239-F809ACB47D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7E11-F784-48DC-B893-0ED4D1428B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9950-D6F6-4F73-A875-AFD59CAC7F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CFD-F6A1-4150-9C94-C79641AB81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A918-6159-4651-B2EF-FAECD17C85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E10D-9E03-40B5-89BA-38DF43A940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D327-B722-43B3-A3B9-76D4461485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641A-BD3B-4594-8711-893EE9F34E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3271-4705-4E17-A2E7-2190918664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878D-B606-482F-A96D-90DC7BBCDB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1017-3887-4A06-9AAB-38C61CB714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5E17-7CEE-42F1-845E-3B927E8310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F226-05A0-4199-9128-E6E2107538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3357-FEB0-4DB7-B2BC-C1A9066935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7CC-AC4B-4855-A0BD-F6FCC76DC9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BEC-2BD0-4D11-B9C6-4A92126859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2ADC-8272-406E-8B47-A6B9419892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1B6F-EC2D-4C81-8823-86E68689A1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590D-42CC-4254-860D-5EF8BCD97E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1768-9BDC-4E72-BDE9-6CEA4D80FF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642-96A4-46EC-9DF5-429A56DB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0D8-EAC5-4434-BC3E-B29177F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F26-F54D-4FEA-97BE-4B453258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6D9-F374-45BE-865E-34B2040F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B2F-82B4-481C-92E2-EEB6AD00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A3D-CD52-4E71-ADFF-E100BD08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5FC-3AF1-4E69-8F47-DD79FAEB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4EB-7AEE-459A-B121-47C3F98A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6CD-1FE5-48A6-8FFC-4C9D313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124-39C5-4B74-8401-3E71563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0C3-9A3E-4FE3-B467-EED3D6C5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89B-9563-4616-A8DF-AA33521A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A0FD-FB0D-40B5-8E05-D571EE7A179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ectors of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elements (independant for e)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calcul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jection of e on a tangential plane to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 is the projection of e and h the distance between experiments an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 and h are independant (orthog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471680" y="2309760"/>
                <a:ext cx="5691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freedom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rPr>
                            <m:lit/>
                            <m:nor/>
                          </m:rPr>
                          <m:t xml:space="preserve">re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freedom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rPr>
                            <m:lit/>
                            <m:nor/>
                          </m:rPr>
                          <m:t xml:space="preserve">re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5181480" y="4724280"/>
                <a:ext cx="342900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À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À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À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685800" y="5562720"/>
                <a:ext cx="4114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10"/>
          <p:cNvCxnSpPr/>
          <p:nvPr/>
        </p:nvCxnSpPr>
        <p:spPr>
          <a:xfrm>
            <a:off x="1371600" y="6019560"/>
            <a:ext cx="5944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1"/>
          <p:cNvCxnSpPr/>
          <p:nvPr/>
        </p:nvCxnSpPr>
        <p:spPr>
          <a:xfrm flipV="1">
            <a:off x="1371240" y="2133000"/>
            <a:ext cx="1080" cy="3886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Text Box 12"/>
          <p:cNvSpPr/>
          <p:nvPr/>
        </p:nvSpPr>
        <p:spPr>
          <a:xfrm>
            <a:off x="6462720" y="60674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asur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63560" y="16765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asur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16"/>
          <p:cNvSpPr/>
          <p:nvPr/>
        </p:nvSpPr>
        <p:spPr>
          <a:xfrm flipH="1">
            <a:off x="2057400" y="2971800"/>
            <a:ext cx="5029200" cy="2895480"/>
          </a:xfrm>
          <a:custGeom>
            <a:avLst/>
            <a:gdLst>
              <a:gd name="textAreaLeft" fmla="*/ 360 w 5029200"/>
              <a:gd name="textAreaRight" fmla="*/ 5029920 w 50292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fill="none" w="21600" h="2197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4"/>
                  <a:pt x="21598" y="21848"/>
                  <a:pt x="21596" y="21973"/>
                </a:cubicBezTo>
              </a:path>
              <a:path stroke="0" w="21600" h="2197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4"/>
                  <a:pt x="21598" y="21848"/>
                  <a:pt x="21596" y="21973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1561320" y="20574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eriment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20"/>
          <p:cNvCxnSpPr>
            <a:stCxn id="101" idx="5"/>
          </p:cNvCxnSpPr>
          <p:nvPr/>
        </p:nvCxnSpPr>
        <p:spPr>
          <a:xfrm>
            <a:off x="2873520" y="2568240"/>
            <a:ext cx="1775520" cy="3375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Text Box 21"/>
          <p:cNvSpPr/>
          <p:nvPr/>
        </p:nvSpPr>
        <p:spPr>
          <a:xfrm>
            <a:off x="2422440" y="477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3"/>
          <p:cNvCxnSpPr/>
          <p:nvPr/>
        </p:nvCxnSpPr>
        <p:spPr>
          <a:xfrm flipV="1">
            <a:off x="1523880" y="1828440"/>
            <a:ext cx="3810960" cy="373464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106" name="AutoShape 24"/>
          <p:cNvCxnSpPr/>
          <p:nvPr/>
        </p:nvCxnSpPr>
        <p:spPr>
          <a:xfrm>
            <a:off x="2819160" y="2514240"/>
            <a:ext cx="3564360" cy="342972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7" name="Object 25"/>
              <p:cNvSpPr txBox="1"/>
              <p:nvPr/>
            </p:nvSpPr>
            <p:spPr>
              <a:xfrm>
                <a:off x="2766960" y="434340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26"/>
          <p:cNvSpPr/>
          <p:nvPr/>
        </p:nvSpPr>
        <p:spPr>
          <a:xfrm>
            <a:off x="3413160" y="40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7"/>
              <p:cNvSpPr txBox="1"/>
              <p:nvPr/>
            </p:nvSpPr>
            <p:spPr>
              <a:xfrm>
                <a:off x="3657600" y="3657600"/>
                <a:ext cx="281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110" name="AutoShape 28"/>
          <p:cNvCxnSpPr/>
          <p:nvPr/>
        </p:nvCxnSpPr>
        <p:spPr>
          <a:xfrm flipH="1">
            <a:off x="2666520" y="2514240"/>
            <a:ext cx="153360" cy="342972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111" name="Text Box 29"/>
          <p:cNvSpPr/>
          <p:nvPr/>
        </p:nvSpPr>
        <p:spPr>
          <a:xfrm>
            <a:off x="2438280" y="309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3032280" y="30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1"/>
              <p:cNvSpPr txBox="1"/>
              <p:nvPr/>
            </p:nvSpPr>
            <p:spPr>
              <a:xfrm>
                <a:off x="2971800" y="3124080"/>
                <a:ext cx="252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2"/>
              <p:cNvSpPr txBox="1"/>
              <p:nvPr/>
            </p:nvSpPr>
            <p:spPr>
              <a:xfrm>
                <a:off x="2438280" y="33782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 Box 33"/>
          <p:cNvSpPr/>
          <p:nvPr/>
        </p:nvSpPr>
        <p:spPr>
          <a:xfrm>
            <a:off x="2879640" y="37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4"/>
              <p:cNvSpPr txBox="1"/>
              <p:nvPr/>
            </p:nvSpPr>
            <p:spPr>
              <a:xfrm>
                <a:off x="2895480" y="3740040"/>
                <a:ext cx="217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35"/>
          <p:cNvSpPr/>
          <p:nvPr/>
        </p:nvSpPr>
        <p:spPr>
          <a:xfrm>
            <a:off x="3489480" y="263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6"/>
              <p:cNvSpPr txBox="1"/>
              <p:nvPr/>
            </p:nvSpPr>
            <p:spPr>
              <a:xfrm>
                <a:off x="3352680" y="2743200"/>
                <a:ext cx="244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37"/>
          <p:cNvSpPr/>
          <p:nvPr/>
        </p:nvSpPr>
        <p:spPr>
          <a:xfrm>
            <a:off x="7149240" y="2638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6613560" y="378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9"/>
              <p:cNvSpPr txBox="1"/>
              <p:nvPr/>
            </p:nvSpPr>
            <p:spPr>
              <a:xfrm>
                <a:off x="7243920" y="3459240"/>
                <a:ext cx="77148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»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finitions and properties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confidence domai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293840" y="2365200"/>
                <a:ext cx="630864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with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q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»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1219320" y="4876920"/>
                <a:ext cx="73911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termination of parameters confidence domain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rs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identify the estimated parameters by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determine the confidence domain of parameters by optimization of the same function than in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339840" y="2432160"/>
                <a:ext cx="8423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i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,</m:t>
                                                </m:r>
                                                <m:sSup>
                                                  <m:e>
                                                    <m:r>
                                                      <m:t xml:space="preserve">q</m:t>
                                                    </m:r>
                                                  </m:e>
                                                  <m:sup/>
                                                </m:sSup>
                                              </m:e>
                                            </m:d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i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,</m:t>
                                                </m:r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q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speed identification of a bu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rst measurement : length of s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nd measurement : time to reach this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re the coordinates of the projection of the measurements on the tangent plane to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2209680" y="2971800"/>
                <a:ext cx="4843440" cy="24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α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g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6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  <m:r>
                                          <m:t xml:space="preserve">α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2684520" y="2487600"/>
                <a:ext cx="3892320" cy="337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v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α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2 : application to a simple enzymatic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 enzyme E with a substrate S transitorily gives a specific complex enzyme-substrate C before the researched product P (Michaelis-Menten kine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2362320" y="3567240"/>
                <a:ext cx="31305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2362320" y="4557600"/>
                <a:ext cx="3720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2438280" y="5510160"/>
                <a:ext cx="26352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E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2 : application to a simple enzymatic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142920" y="2216160"/>
          <a:ext cx="4602240" cy="46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216160"/>
                    <a:ext cx="46022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4398840" y="2214720"/>
          <a:ext cx="4602240" cy="464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8840" y="2214720"/>
                    <a:ext cx="460224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 estimation by evolutionary algorithm (or genetic) = set of solutions (defined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determination by evolutionary algorithm = set of solutions (defined number) with end test by corresponding Fischer Snedec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t of parameters vector (confidence domain representation) = possibility to calculate correlations betwee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tection of high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 vizualize the confidence domain = projection of the solutions set on 2 parameter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n elliptical confidence domain = non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imated parameters not at the confidence domain center = non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s between parameters can be reduced by new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Parametric identification</a:t>
            </a:r>
            <a:br>
              <a:rPr sz="36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from experiment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266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5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6"/>
          <p:cNvCxnSpPr/>
          <p:nvPr/>
        </p:nvCxnSpPr>
        <p:spPr>
          <a:xfrm flipV="1">
            <a:off x="1676160" y="2285640"/>
            <a:ext cx="1080" cy="373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Oval 7"/>
          <p:cNvSpPr/>
          <p:nvPr/>
        </p:nvSpPr>
        <p:spPr>
          <a:xfrm rot="19764000">
            <a:off x="2514240" y="3517560"/>
            <a:ext cx="472428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8"/>
          <p:cNvCxnSpPr/>
          <p:nvPr/>
        </p:nvCxnSpPr>
        <p:spPr>
          <a:xfrm>
            <a:off x="2817360" y="5333760"/>
            <a:ext cx="2520" cy="68652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155" name="AutoShape 9"/>
          <p:cNvCxnSpPr/>
          <p:nvPr/>
        </p:nvCxnSpPr>
        <p:spPr>
          <a:xfrm>
            <a:off x="6933960" y="3067200"/>
            <a:ext cx="1080" cy="295344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sp>
        <p:nvSpPr>
          <p:cNvPr id="156" name="Text Box 10"/>
          <p:cNvSpPr/>
          <p:nvPr/>
        </p:nvSpPr>
        <p:spPr>
          <a:xfrm>
            <a:off x="3508920" y="601992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935040" y="55627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762840" y="18288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3"/>
          <p:cNvCxnSpPr/>
          <p:nvPr/>
        </p:nvCxnSpPr>
        <p:spPr>
          <a:xfrm>
            <a:off x="1676520" y="4114800"/>
            <a:ext cx="4496400" cy="216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160" name="Text Box 15"/>
          <p:cNvSpPr/>
          <p:nvPr/>
        </p:nvSpPr>
        <p:spPr>
          <a:xfrm>
            <a:off x="5236560" y="3124080"/>
            <a:ext cx="146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16"/>
          <p:cNvCxnSpPr/>
          <p:nvPr/>
        </p:nvCxnSpPr>
        <p:spPr>
          <a:xfrm flipH="1">
            <a:off x="1676160" y="4114800"/>
            <a:ext cx="2134080" cy="216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162" name="AutoShape 17"/>
          <p:cNvCxnSpPr/>
          <p:nvPr/>
        </p:nvCxnSpPr>
        <p:spPr>
          <a:xfrm>
            <a:off x="380952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cxnSp>
        <p:nvCxnSpPr>
          <p:cNvPr id="163" name="AutoShape 18"/>
          <p:cNvCxnSpPr/>
          <p:nvPr/>
        </p:nvCxnSpPr>
        <p:spPr>
          <a:xfrm>
            <a:off x="617184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164" name="Text Box 19"/>
          <p:cNvSpPr/>
          <p:nvPr/>
        </p:nvSpPr>
        <p:spPr>
          <a:xfrm>
            <a:off x="153360" y="365760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22"/>
          <p:cNvCxnSpPr/>
          <p:nvPr/>
        </p:nvCxnSpPr>
        <p:spPr>
          <a:xfrm>
            <a:off x="3428640" y="3252600"/>
            <a:ext cx="801000" cy="557640"/>
          </a:xfrm>
          <a:prstGeom prst="straightConnector1">
            <a:avLst/>
          </a:prstGeom>
          <a:ln w="28440">
            <a:solidFill>
              <a:srgbClr val="0c18f4"/>
            </a:solidFill>
            <a:miter/>
            <a:tailEnd len="med" type="triangle" w="med"/>
          </a:ln>
        </p:spPr>
      </p:cxnSp>
      <p:sp>
        <p:nvSpPr>
          <p:cNvPr id="166" name="Text Box 23"/>
          <p:cNvSpPr/>
          <p:nvPr/>
        </p:nvSpPr>
        <p:spPr>
          <a:xfrm>
            <a:off x="2060280" y="281952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3264120" y="202896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lined confidence domain =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316280" y="2454120"/>
            <a:ext cx="17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interval = overall range of the corresponding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duced confidence interval = range of the parameter when the others take their estima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the reduced confidence interval contains the 0 value, the corresponding parameter is not significantly different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en a parameter is not significantly different to 0, a model reduction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arison between experimental data with corresponding simulations from model and estimate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interval of model prediction from Student te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an experimental data is not include in the corresponding confidence interval the measurement is maybe devi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228600" y="4130640"/>
                <a:ext cx="8535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3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4"/>
          <p:cNvCxnSpPr/>
          <p:nvPr/>
        </p:nvCxnSpPr>
        <p:spPr>
          <a:xfrm flipV="1">
            <a:off x="1676160" y="2285640"/>
            <a:ext cx="1080" cy="373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Text Box 9"/>
          <p:cNvSpPr/>
          <p:nvPr/>
        </p:nvSpPr>
        <p:spPr>
          <a:xfrm>
            <a:off x="7469640" y="556272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59360" y="18288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asur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AutoShape 21"/>
          <p:cNvCxnSpPr/>
          <p:nvPr/>
        </p:nvCxnSpPr>
        <p:spPr>
          <a:xfrm flipV="1">
            <a:off x="1676520" y="2285640"/>
            <a:ext cx="4953240" cy="3734640"/>
          </a:xfrm>
          <a:prstGeom prst="straightConnector1">
            <a:avLst/>
          </a:prstGeom>
          <a:ln w="12600">
            <a:solidFill>
              <a:srgbClr val="f4171f"/>
            </a:solidFill>
            <a:miter/>
          </a:ln>
        </p:spPr>
      </p:cxnSp>
      <p:cxnSp>
        <p:nvCxnSpPr>
          <p:cNvPr id="181" name="AutoShape 22"/>
          <p:cNvCxnSpPr/>
          <p:nvPr/>
        </p:nvCxnSpPr>
        <p:spPr>
          <a:xfrm flipV="1">
            <a:off x="2133720" y="2285640"/>
            <a:ext cx="4953240" cy="3734640"/>
          </a:xfrm>
          <a:prstGeom prst="straightConnector1">
            <a:avLst/>
          </a:prstGeom>
          <a:ln w="28440">
            <a:solidFill>
              <a:srgbClr val="0c18f4"/>
            </a:solidFill>
            <a:miter/>
          </a:ln>
        </p:spPr>
      </p:cxnSp>
      <p:cxnSp>
        <p:nvCxnSpPr>
          <p:cNvPr id="182" name="AutoShape 23"/>
          <p:cNvCxnSpPr/>
          <p:nvPr/>
        </p:nvCxnSpPr>
        <p:spPr>
          <a:xfrm flipV="1">
            <a:off x="1676520" y="1980720"/>
            <a:ext cx="4953240" cy="3734640"/>
          </a:xfrm>
          <a:prstGeom prst="straightConnector1">
            <a:avLst/>
          </a:prstGeom>
          <a:ln w="28440">
            <a:solidFill>
              <a:srgbClr val="0c18f4"/>
            </a:solidFill>
            <a:miter/>
          </a:ln>
        </p:spPr>
      </p:cxnSp>
      <p:sp>
        <p:nvSpPr>
          <p:cNvPr id="183" name="Text Box 24"/>
          <p:cNvSpPr/>
          <p:nvPr/>
        </p:nvSpPr>
        <p:spPr>
          <a:xfrm>
            <a:off x="2120040" y="233352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f mode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4876920" y="3352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5410080" y="3352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4191120" y="38862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457200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6172200" y="2590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505320" y="45720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3048120" y="49528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2362320" y="52578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33"/>
          <p:cNvCxnSpPr>
            <a:stCxn id="193" idx="1"/>
          </p:cNvCxnSpPr>
          <p:nvPr/>
        </p:nvCxnSpPr>
        <p:spPr>
          <a:xfrm flipH="1" flipV="1">
            <a:off x="4723920" y="4114440"/>
            <a:ext cx="1051920" cy="4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Text Box 34"/>
          <p:cNvSpPr/>
          <p:nvPr/>
        </p:nvSpPr>
        <p:spPr>
          <a:xfrm>
            <a:off x="5778000" y="3749760"/>
            <a:ext cx="26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rsus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3962520" y="48006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36"/>
          <p:cNvCxnSpPr/>
          <p:nvPr/>
        </p:nvCxnSpPr>
        <p:spPr>
          <a:xfrm flipH="1" flipV="1">
            <a:off x="4129920" y="4830120"/>
            <a:ext cx="1051560" cy="19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Text Box 37"/>
          <p:cNvSpPr/>
          <p:nvPr/>
        </p:nvSpPr>
        <p:spPr>
          <a:xfrm>
            <a:off x="5244480" y="47721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ia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76280" y="1884240"/>
            <a:ext cx="80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s betwee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1"/>
          <p:cNvGraphicFramePr/>
          <p:nvPr/>
        </p:nvGraphicFramePr>
        <p:xfrm>
          <a:off x="285840" y="2786040"/>
          <a:ext cx="85820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786040"/>
                    <a:ext cx="85820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476280" y="188424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arison between experimenta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lculated young modulu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rcRect l="674" t="5627" r="13133" b="2181"/>
          <a:stretch/>
        </p:blipFill>
        <p:spPr>
          <a:xfrm>
            <a:off x="1643040" y="3143160"/>
            <a:ext cx="5357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measurement i={1, 2, …,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component j={1, 2, …, m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ample : concentration, temperature, molecular weigh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erating condition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measurement of j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component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ample for continuous experiments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ime of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d valu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measurement of j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component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sponding predicted val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sponding unknown true val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unknown true values :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 erro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410080" y="4524480"/>
                <a:ext cx="1371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6013440" y="4981680"/>
                <a:ext cx="1530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3746520" y="5867280"/>
                <a:ext cx="2577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7924680" y="3352680"/>
                <a:ext cx="400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7165800" y="4216320"/>
                <a:ext cx="378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rror modelling (replications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pendant gaussian errors with average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ltiplicative erro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ditive errors :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ability dens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ed parameters val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9"/>
              <p:cNvSpPr txBox="1"/>
              <p:nvPr/>
            </p:nvSpPr>
            <p:spPr>
              <a:xfrm>
                <a:off x="3803760" y="2743200"/>
                <a:ext cx="2597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i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090960" y="3200400"/>
                <a:ext cx="2303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2819520" y="3886200"/>
                <a:ext cx="36957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p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2"/>
              <p:cNvSpPr txBox="1"/>
              <p:nvPr/>
            </p:nvSpPr>
            <p:spPr>
              <a:xfrm>
                <a:off x="2766960" y="5410080"/>
                <a:ext cx="3762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f>
                      <m:num>
                        <m:r>
                          <m:t xml:space="preserve">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j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3"/>
              <p:cNvSpPr txBox="1"/>
              <p:nvPr/>
            </p:nvSpPr>
            <p:spPr>
              <a:xfrm>
                <a:off x="5181480" y="6172200"/>
                <a:ext cx="244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func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imation of the measurement erro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estim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730600" y="3772080"/>
                <a:ext cx="3381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2236680" y="4952880"/>
                <a:ext cx="45403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¶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sup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i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j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sSub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rPr>
                                                            <m:lit/>
                                                            <m:nor/>
                                                          </m:rPr>
                                                          <m:t xml:space="preserve">ij</m:t>
                                                        </m:r>
                                                      </m:sub>
                                                    </m:sSub>
                                                    <m:r>
                                                      <m:t xml:space="preserve">,</m:t>
                                                    </m:r>
                                                    <m:r>
                                                      <m:t xml:space="preserve">q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¶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1219320" y="2475000"/>
                <a:ext cx="647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p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p/>
                                        </m:sSup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estimation by minimization of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tal number of freedom degre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total number of measurements - parameters number - variances number +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biased estimation of measurement error varianc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322360" y="2451240"/>
                <a:ext cx="4270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q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2666880" y="4114800"/>
                <a:ext cx="38862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2895480" y="5562720"/>
                <a:ext cx="34099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1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unknown average and variance of n gaussian hazards y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 gives biased vari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1857240" y="2293920"/>
                <a:ext cx="56707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m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V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j¹i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pV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787400" y="3807000"/>
                <a:ext cx="50022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den>
                        </m:f>
                        <m:r>
                          <m:t xml:space="preserve">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905120" y="5511960"/>
                <a:ext cx="51814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m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freedom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rPr>
                            <m:lit/>
                            <m:nor/>
                          </m:rPr>
                          <m:t xml:space="preserve">ree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2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unknown C (and T), measurement of P and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1057320" y="2486160"/>
                <a:ext cx="7124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T</m:t>
                        </m:r>
                        <m:r>
                          <m:rPr>
                            <m:lit/>
                            <m:nor/>
                          </m:rPr>
                          <m:t xml:space="preserve">unknown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ces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R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R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1066680" y="3879720"/>
                <a:ext cx="5923080" cy="25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R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3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erpolymerization in tubular re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69 parameters) styrene/a-methylstyrene/acr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rs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tep : simultaneously indentification of 23 parameters (3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tep : simultaneously indentification of the 69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39:03Z</dcterms:modified>
  <cp:revision>54</cp:revision>
  <dc:subject/>
  <dc:title>Process modelling and optimisation aid</dc:title>
</cp:coreProperties>
</file>